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2596-43EE-4BCC-B6B1-C8D8C3F99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74EF-A830-427D-89D7-B039916C1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CE71-67C4-4212-AD03-3F6851D9E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9CC2-74BD-4F87-9A6B-BCBBA047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2C83-6D7E-475B-90D8-FF358DCE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F40-7404-4663-A5CC-9D617BDC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EC69-3372-41C4-8114-AA72DBBC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9883-609E-4C82-BA6D-FCDED315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FCFA-B1B4-46D4-88E3-C978ED19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DEDA-E466-4A38-8458-B52F889D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74F7-7B29-4C14-B42E-2FAD26D8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6CD5-5DE9-4F92-9568-C2BE7806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2C42-E186-419F-A671-4180D543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E3E6-469D-46F2-9CD1-983F96A04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AA14-6128-42EB-8F51-1F78862D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1721-FF37-4F83-AB57-DCB77FD0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9368-E783-434F-A6B3-8A2D3B60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0C89-71F8-4BB6-84F9-C37961BD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19C2-1BE7-4BAD-836A-C4D40686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A5D8-F07F-4323-B0A6-E8764625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B3CD-DD21-46D1-B998-6A00D619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FE3E-BDAE-448C-8B37-FB5E90D2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37C1-B85C-491D-BAEF-27E44A17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F29A-9B3C-4FEE-A51A-858DF7E8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57A4-22A9-4DFF-95D1-39260924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6E24-AE52-4C95-A8EE-E04030B3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ACD3-F326-4C04-A8A7-DD5F1C0F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8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2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3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5BA1-9165-43FF-83E7-A33171E7C8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F755-351D-4A31-8111-32129DBEDE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6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837720" y="15238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94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Overview: Year 2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Moving forwa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1"/>
          <p:cNvSpPr/>
          <p:nvPr/>
        </p:nvSpPr>
        <p:spPr>
          <a:xfrm>
            <a:off x="380880" y="213372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NAFAKA stat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ts implications on the project next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Expanding  x 5 tim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What are the implications for realizing the result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team/subteam should articulate its strategy for next year or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alibri"/>
              </a:rPr>
              <a:t>Clarification to beneficiar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out the project focus (clear messa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</a:t>
            </a: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integr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other components of the value chain (markets, inputs, processing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513" name="Group 1"/>
          <p:cNvGrpSpPr/>
          <p:nvPr/>
        </p:nvGrpSpPr>
        <p:grpSpPr>
          <a:xfrm>
            <a:off x="1066680" y="4444920"/>
            <a:ext cx="7012080" cy="2154240"/>
            <a:chOff x="1066680" y="4444920"/>
            <a:chExt cx="7012080" cy="2154240"/>
          </a:xfrm>
        </p:grpSpPr>
        <p:pic>
          <p:nvPicPr>
            <p:cNvPr id="514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5819760"/>
              <a:ext cx="6858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7117920" y="5057280"/>
              <a:ext cx="96084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2" descr="P:\logos\i\ICRISAT\icrisat-logo.jpg"/>
            <p:cNvPicPr/>
            <p:nvPr/>
          </p:nvPicPr>
          <p:blipFill>
            <a:blip r:embed="rId3"/>
            <a:stretch/>
          </p:blipFill>
          <p:spPr>
            <a:xfrm>
              <a:off x="4509720" y="6036480"/>
              <a:ext cx="150732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6" descr="AVRDC – The World Vegetable Center — avrdc.org"/>
            <p:cNvPicPr/>
            <p:nvPr/>
          </p:nvPicPr>
          <p:blipFill>
            <a:blip r:embed="rId4"/>
            <a:srcRect l="0" t="0" r="63858" b="0"/>
            <a:stretch/>
          </p:blipFill>
          <p:spPr>
            <a:xfrm>
              <a:off x="1066680" y="5148360"/>
              <a:ext cx="1967040" cy="5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7" descr="P:\logos\i\iita\IITA_regular-sienna_with slogan (2).JPG"/>
            <p:cNvPicPr/>
            <p:nvPr/>
          </p:nvPicPr>
          <p:blipFill>
            <a:blip r:embed="rId5"/>
            <a:stretch/>
          </p:blipFill>
          <p:spPr>
            <a:xfrm>
              <a:off x="4190760" y="4444920"/>
              <a:ext cx="1123200" cy="5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14" descr=""/>
            <p:cNvPicPr/>
            <p:nvPr/>
          </p:nvPicPr>
          <p:blipFill>
            <a:blip r:embed="rId6"/>
            <a:stretch/>
          </p:blipFill>
          <p:spPr>
            <a:xfrm>
              <a:off x="4145400" y="5191200"/>
              <a:ext cx="1569240" cy="6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84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3352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stry of Agriculture, Livestock and Fisheries (MAL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I Hombolo, ARI Chollima/Dakawa; ARI Selian; KATRIN; HORTI-Tenge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FAKA partners (IFDC, RUDI, FIPS, MVIWATA), private sector actors (marketing, process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ICOs: Kilosa, Mvomero, Babati, Iringa rural, Kilolo, Mbarali, Mbozi, Kongwa, Kiteto and Kilombero distri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inata Seeds, Meru Agro, Other input suppl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24" descr=""/>
          <p:cNvPicPr/>
          <p:nvPr/>
        </p:nvPicPr>
        <p:blipFill>
          <a:blip r:embed="rId1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Backgroun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rice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C:\Users\user\AppData\Local\Microsoft\Windows\INetCache\Content.Outlook\76WYE4AT\AR_NAFAKA_Action_Districts_12042016.jpg"/>
          <p:cNvPicPr/>
          <p:nvPr/>
        </p:nvPicPr>
        <p:blipFill>
          <a:blip r:embed="rId1"/>
          <a:stretch/>
        </p:blipFill>
        <p:spPr>
          <a:xfrm>
            <a:off x="685800" y="1219320"/>
            <a:ext cx="75438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Key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Rectangle 1"/>
          <p:cNvSpPr/>
          <p:nvPr/>
        </p:nvSpPr>
        <p:spPr>
          <a:xfrm>
            <a:off x="380880" y="26668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eam eff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Good; generally on track to realize targ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Reorganization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ice team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Management and coordination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lity leadership, advice,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83808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Key action areas for better scal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Oval 3"/>
          <p:cNvSpPr/>
          <p:nvPr/>
        </p:nvSpPr>
        <p:spPr>
          <a:xfrm>
            <a:off x="824040" y="3314880"/>
            <a:ext cx="2514600" cy="190476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Oval 4"/>
          <p:cNvSpPr/>
          <p:nvPr/>
        </p:nvSpPr>
        <p:spPr>
          <a:xfrm>
            <a:off x="2057400" y="3352680"/>
            <a:ext cx="2514600" cy="190512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TextBox 31" descr=""/>
          <p:cNvPicPr/>
          <p:nvPr/>
        </p:nvPicPr>
        <p:blipFill>
          <a:blip r:embed="rId1"/>
          <a:stretch/>
        </p:blipFill>
        <p:spPr>
          <a:xfrm>
            <a:off x="987480" y="4041720"/>
            <a:ext cx="1066680" cy="920880"/>
          </a:xfrm>
          <a:prstGeom prst="rect">
            <a:avLst/>
          </a:prstGeom>
          <a:ln w="0">
            <a:noFill/>
          </a:ln>
        </p:spPr>
      </p:pic>
      <p:pic>
        <p:nvPicPr>
          <p:cNvPr id="493" name="TextBox 32" descr=""/>
          <p:cNvPicPr/>
          <p:nvPr/>
        </p:nvPicPr>
        <p:blipFill>
          <a:blip r:embed="rId2"/>
          <a:stretch/>
        </p:blipFill>
        <p:spPr>
          <a:xfrm>
            <a:off x="3273480" y="3889440"/>
            <a:ext cx="1450800" cy="646200"/>
          </a:xfrm>
          <a:prstGeom prst="rect">
            <a:avLst/>
          </a:prstGeom>
          <a:ln w="0">
            <a:noFill/>
          </a:ln>
        </p:spPr>
      </p:pic>
      <p:sp>
        <p:nvSpPr>
          <p:cNvPr id="494" name="Rounded Rectangle 33"/>
          <p:cNvSpPr/>
          <p:nvPr/>
        </p:nvSpPr>
        <p:spPr>
          <a:xfrm>
            <a:off x="1828800" y="205740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Investor (USA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ounded Rectangle 34"/>
          <p:cNvSpPr/>
          <p:nvPr/>
        </p:nvSpPr>
        <p:spPr>
          <a:xfrm>
            <a:off x="1600200" y="5791320"/>
            <a:ext cx="2438280" cy="9903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(Smallhol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6" name="Straight Arrow Connector 37"/>
          <p:cNvCxnSpPr/>
          <p:nvPr/>
        </p:nvCxnSpPr>
        <p:spPr>
          <a:xfrm>
            <a:off x="3428640" y="297180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7" name="Straight Arrow Connector 38"/>
          <p:cNvCxnSpPr/>
          <p:nvPr/>
        </p:nvCxnSpPr>
        <p:spPr>
          <a:xfrm>
            <a:off x="2209320" y="297180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8" name="TextBox 39"/>
          <p:cNvSpPr/>
          <p:nvPr/>
        </p:nvSpPr>
        <p:spPr>
          <a:xfrm>
            <a:off x="2133720" y="3962520"/>
            <a:ext cx="1052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Common man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Up-Down Arrow 40"/>
          <p:cNvSpPr/>
          <p:nvPr/>
        </p:nvSpPr>
        <p:spPr>
          <a:xfrm>
            <a:off x="2666880" y="5257800"/>
            <a:ext cx="228600" cy="533520"/>
          </a:xfrm>
          <a:prstGeom prst="upDownArrow">
            <a:avLst>
              <a:gd name="adj1" fmla="val 50000"/>
              <a:gd name="adj2" fmla="val 50015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42"/>
          <p:cNvSpPr/>
          <p:nvPr/>
        </p:nvSpPr>
        <p:spPr>
          <a:xfrm>
            <a:off x="4815000" y="1808280"/>
            <a:ext cx="425268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CG centers should operate with national research institutions in all 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NAFAKA as a consortium has many development actors that matter. We should involve them; identify others – NGOs, private s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MS PGothic"/>
              </a:rPr>
              <a:t>Leverage resources (N2Afr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alibri"/>
                <a:ea typeface="MS PGothic"/>
              </a:rPr>
              <a:t>Deepen work with DAICOs especially VAEOS/WAE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etter communication and coordination (with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MS PGothic"/>
              </a:rPr>
              <a:t>subordina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,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  <a:ea typeface="MS PGothic"/>
              </a:rPr>
              <a:t>team lead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41"/>
          <p:cNvSpPr/>
          <p:nvPr/>
        </p:nvSpPr>
        <p:spPr>
          <a:xfrm>
            <a:off x="1219320" y="1224000"/>
            <a:ext cx="89913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7f09"/>
                </a:solidFill>
                <a:latin typeface="Calibri"/>
                <a:ea typeface="MS PGothic"/>
              </a:rPr>
              <a:t>1. Partnership – ‘winning’ arrang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2. Documentat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3333cc"/>
                </a:solidFill>
                <a:latin typeface="Calibri"/>
              </a:rPr>
              <a:t>If it is not recorded, it did not happen!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2. Docu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"/>
          <p:cNvSpPr/>
          <p:nvPr/>
        </p:nvSpPr>
        <p:spPr>
          <a:xfrm>
            <a:off x="609480" y="21337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ff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Interna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ributes of technologies including ‘cost-benefit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materials (manuals, flyers, fact shee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posts for the dem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368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2. Documentat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417680"/>
            <a:ext cx="33526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i. Capacity buil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eld Liaison staff training (May 201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AID M&amp;E partners’ meetings (quarterl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"/>
          <p:cNvSpPr/>
          <p:nvPr/>
        </p:nvSpPr>
        <p:spPr>
          <a:xfrm>
            <a:off x="609480" y="3909960"/>
            <a:ext cx="312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ii. Progress and updates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itoring data (DCF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Success st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3886200" y="182880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6-07-04T05:36:17Z</dcterms:modified>
  <cp:revision>30</cp:revision>
  <dc:subject/>
  <dc:title>PowerPoint Presentation</dc:title>
</cp:coreProperties>
</file>